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3E3-0C76-4DF0-9073-F7D9DEC9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D0A-BA04-4356-96BE-1F4836F5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04B-85E4-4B47-AC14-C44AEB36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84C-A577-4AA8-AA9E-8440CBCB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BC0-BE51-4157-AB60-22A38C6D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EBA-D022-45EB-9570-49660973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157C-3B45-4B15-BE9B-14EFBF6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35E5-A4DD-4A7A-84D2-68F5802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137-8DB3-4C6B-9ED7-5212944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D863-AFA2-4C41-ADEE-03707E6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4ED6-4F02-4351-B084-3D00071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FC8-A483-4275-8519-5D87A645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E479-B49C-41B3-A5E4-8CE95846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80D-71C9-48A3-999D-45DD0E9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746-3C16-42FC-954C-3343731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9729-FCFB-4125-8A8F-B24BF91A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A084-2753-4F54-99BF-07519792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5EB-D3C1-4AF7-BD16-5AE9E7BD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5DF-40C2-4AE3-BFE8-83D3367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976-04FF-4CFD-BE1C-CF853BA7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18F-7582-4474-AF1C-8145254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885-2065-4A23-852B-81B2874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22C-FE41-4D9D-A066-9A2237F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86F-CF42-49FF-9C6C-41F44ED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18B-F20A-471D-90AD-D38471C3712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823-246F-4FDF-ABC8-3EEA224831B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14600" y="2057400"/>
            <a:ext cx="4648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R SUZANNA RACH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DESAYUN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03364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22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168444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867280" y="2438280"/>
            <a:ext cx="243864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600200" y="4648320"/>
            <a:ext cx="2438280" cy="190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649116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1680" y="649044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pas a la ca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4904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so de agu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1680" y="41144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rtill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eddar y espinac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9960" y="4266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2663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ntalup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EL ALMUERZO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0574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0400" y="2362320"/>
            <a:ext cx="230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342880" cy="1904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486400" y="4648320"/>
            <a:ext cx="121932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89280" y="63237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6240" y="6323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h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0680" y="4266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lo a la parri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7640" y="434268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1040" y="42663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za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ff"/>
                </a:solidFill>
                <a:uFillTx/>
                <a:latin typeface="Arial Black"/>
              </a:rPr>
              <a:t>PARA LA CENA ME GUSTA CO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52396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251460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638680" y="4419720"/>
            <a:ext cx="123696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0440" y="4114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ngos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4114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í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1920" y="411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labací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2760" y="649116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salada Cés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6491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nta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Arial"/>
              </a:rPr>
              <a:t>PARA EL POSTRE ME GUSTA COMMER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21004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05520" y="472428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8320" cy="2210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2590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3440" y="411444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pcake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cobertur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5560" y="649044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6440" y="426672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ubierta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46476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esas 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a ba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6440" y="6490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0:57Z</dcterms:created>
  <dc:creator>rachimisuz</dc:creator>
  <dc:description/>
  <dc:language>en-US</dc:language>
  <cp:lastModifiedBy>rachimisuz</cp:lastModifiedBy>
  <dcterms:modified xsi:type="dcterms:W3CDTF">2011-04-14T15:04:06Z</dcterms:modified>
  <cp:revision>12</cp:revision>
  <dc:subject/>
  <dc:title>LAS COMIDAS</dc:title>
</cp:coreProperties>
</file>